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CA6-72F4-47D4-9290-33F98B1C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032-D893-4DED-BAC7-A25FE6CF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C1B-2C2C-4840-9FBB-9B5FA04D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513-561D-4248-A846-9AFAA30E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27E6-FEC8-4337-A600-1A961DDC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DAC0-61AF-4EA1-9526-E29141BB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827F-1977-4FD5-BD2E-452A33E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68E4-C182-4392-A0E1-DDD9B4A6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E716-CA0A-4989-97DD-9363F4D2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19FC-AC5D-4E84-BC2A-39C4BE8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4721-B1DF-402C-A0DF-B909B69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BA2-EE3B-484F-ADD8-5B8911D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51AB-4A27-4C3C-9BE2-265441B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9CEB-7AA7-4C38-B6B0-FABB0BF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43AB-9093-4968-A8E7-822647F7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FA68-EFA5-4595-AEBB-A52CC22E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3D94-1B2E-462C-9D3A-D49E2CE4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57A-F180-4F35-959A-ED67FA5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51C-306E-4378-9A1F-6ED5324A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F62-B1F6-473B-AF33-2875A614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8C7-7B04-4EBD-9E02-E82CB683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D63-6017-48EC-9AB8-AD89800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5BF-7D6E-4E3A-8E81-CBA484A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501-2009-4B63-B775-2686B180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B586-42B5-4E0F-9F72-145D53FA09D5}" type="slidenum"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4280" y="0"/>
            <a:ext cx="9098280" cy="6856560"/>
            <a:chOff x="44280" y="0"/>
            <a:chExt cx="9098280" cy="6856560"/>
          </a:xfrm>
        </p:grpSpPr>
        <p:sp>
          <p:nvSpPr>
            <p:cNvPr id="167" name=""/>
            <p:cNvSpPr/>
            <p:nvPr/>
          </p:nvSpPr>
          <p:spPr>
            <a:xfrm>
              <a:off x="133020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948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8040" y="9360"/>
              <a:ext cx="7920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2280" y="460440"/>
              <a:ext cx="7308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000" y="289080"/>
              <a:ext cx="8892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360" y="123840"/>
              <a:ext cx="88920" cy="6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5440" y="44280"/>
              <a:ext cx="8424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548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7720" y="116856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65320" y="307800"/>
              <a:ext cx="81000" cy="93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680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3680" y="1695600"/>
              <a:ext cx="8712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7920" y="1449360"/>
              <a:ext cx="2520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04760" y="246240"/>
              <a:ext cx="88920" cy="648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920" y="6732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0440" y="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21040" y="120600"/>
              <a:ext cx="8388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70120" y="59688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840" y="3595680"/>
              <a:ext cx="49320" cy="6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4200" y="1204920"/>
              <a:ext cx="85680" cy="68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98760" y="969840"/>
              <a:ext cx="88920" cy="669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65240" y="78732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5680" y="10922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960" y="2516040"/>
              <a:ext cx="82440" cy="92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4840" y="174600"/>
              <a:ext cx="7920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2880" y="1825560"/>
              <a:ext cx="838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04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4880" y="390600"/>
              <a:ext cx="3816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4480" y="632160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6600" y="14292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6480" y="73080"/>
              <a:ext cx="889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80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12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00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5680" y="463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8240" y="311040"/>
              <a:ext cx="8388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9544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6880" y="34920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160" y="5969160"/>
              <a:ext cx="8424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44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32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2800" y="93996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5040" y="2852640"/>
              <a:ext cx="81000" cy="9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2120" y="3059280"/>
              <a:ext cx="81000" cy="93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680" y="2046240"/>
              <a:ext cx="84240" cy="66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7560" y="317520"/>
              <a:ext cx="8748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9120" y="701640"/>
              <a:ext cx="8748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4440" y="249120"/>
              <a:ext cx="87120" cy="651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736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808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324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5120" y="6019920"/>
              <a:ext cx="81000" cy="918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6080" y="5486400"/>
              <a:ext cx="80640" cy="921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6360" y="25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5200" y="3606840"/>
              <a:ext cx="81000" cy="93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8640" y="4427640"/>
              <a:ext cx="86040" cy="66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24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112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7468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9680" y="82440"/>
              <a:ext cx="8388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58840" y="6311880"/>
              <a:ext cx="85680" cy="684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44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5360" y="536400"/>
              <a:ext cx="8892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12720" y="120600"/>
              <a:ext cx="51120" cy="57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0280" y="5935680"/>
              <a:ext cx="87480" cy="684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720" y="1546200"/>
              <a:ext cx="7308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0080" y="4192560"/>
              <a:ext cx="39960" cy="44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93920" y="3268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7760" y="1825560"/>
              <a:ext cx="87480" cy="68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964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00" y="61920"/>
              <a:ext cx="87120" cy="65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324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6880" y="25560"/>
              <a:ext cx="8424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6200" y="6264360"/>
              <a:ext cx="33480" cy="96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3160" y="6064200"/>
              <a:ext cx="2232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4280" y="6334200"/>
              <a:ext cx="2945160" cy="511200"/>
              <a:chOff x="44280" y="6334200"/>
              <a:chExt cx="2945160" cy="511200"/>
            </a:xfrm>
          </p:grpSpPr>
          <p:sp>
            <p:nvSpPr>
              <p:cNvPr id="243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93920" y="6445080"/>
                <a:ext cx="8568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01680" y="6713640"/>
                <a:ext cx="86040" cy="666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9400" y="6642000"/>
                <a:ext cx="52200" cy="10476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82800" y="6445080"/>
                <a:ext cx="8424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246320" y="993600"/>
              <a:ext cx="6804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3060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988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8400" y="289080"/>
              <a:ext cx="8892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8120" y="116856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720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4080" y="1695600"/>
              <a:ext cx="8712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78320" y="1449360"/>
              <a:ext cx="2520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70320" y="6732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70520" y="59688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6080" y="10922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444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5280" y="390600"/>
              <a:ext cx="3816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420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652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440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9584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67280" y="34920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84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8772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19520" y="701640"/>
              <a:ext cx="8748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776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8480" y="615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4964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152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7508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684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95760" y="536400"/>
              <a:ext cx="8892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8004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0364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46720" y="993600"/>
              <a:ext cx="6804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8240" y="1263600"/>
              <a:ext cx="8388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2880" y="1606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35440" y="1454040"/>
              <a:ext cx="8388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4760" y="1460520"/>
              <a:ext cx="8748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0440" y="1758960"/>
              <a:ext cx="8388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33560" y="1168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1120" y="14698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27520" y="806400"/>
              <a:ext cx="8388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92680" y="19080"/>
              <a:ext cx="8388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2000" y="220680"/>
              <a:ext cx="88920" cy="651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7920" y="95400"/>
              <a:ext cx="8424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1720" y="149400"/>
              <a:ext cx="7956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3360" y="47520"/>
              <a:ext cx="88920" cy="669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79960" y="95400"/>
              <a:ext cx="5076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3760" y="0"/>
              <a:ext cx="84240" cy="95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4800" y="996840"/>
              <a:ext cx="25560" cy="2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23000" y="9360"/>
              <a:ext cx="7956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67600" y="460440"/>
              <a:ext cx="7272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3080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0640" y="307800"/>
              <a:ext cx="81000" cy="939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6000" y="120600"/>
              <a:ext cx="8424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75440" y="596880"/>
              <a:ext cx="8388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29160" y="1204920"/>
              <a:ext cx="85680" cy="68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4080" y="969840"/>
              <a:ext cx="88920" cy="669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0560" y="78732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61000" y="463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83200" y="31104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2200" y="349200"/>
              <a:ext cx="838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7760" y="939960"/>
              <a:ext cx="8424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92880" y="317520"/>
              <a:ext cx="871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615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81680" y="25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4640" y="82440"/>
              <a:ext cx="8424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38680" y="1546200"/>
              <a:ext cx="7308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9240" y="326880"/>
              <a:ext cx="8712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72200" y="25560"/>
              <a:ext cx="8388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35920" y="1378080"/>
              <a:ext cx="85680" cy="950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866080" y="2292480"/>
              <a:ext cx="2556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13720" y="289080"/>
              <a:ext cx="8856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31200" y="1600200"/>
              <a:ext cx="8100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3080" y="1168560"/>
              <a:ext cx="8424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2160" y="1623960"/>
              <a:ext cx="85680" cy="68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9040" y="1695600"/>
              <a:ext cx="8748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83280" y="1449360"/>
              <a:ext cx="25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75640" y="673200"/>
              <a:ext cx="88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856720" y="1892160"/>
              <a:ext cx="84240" cy="95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1092240"/>
              <a:ext cx="8424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89760" y="3873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10600" y="390600"/>
              <a:ext cx="37800" cy="270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9520" y="1249200"/>
              <a:ext cx="87120" cy="65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1840" y="1427040"/>
              <a:ext cx="88920" cy="6372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59720" y="6271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01160" y="311040"/>
              <a:ext cx="8568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05760" y="2101680"/>
              <a:ext cx="84240" cy="954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61160" y="136836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3040" y="149220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840" y="701640"/>
              <a:ext cx="87120" cy="63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62720" y="971640"/>
              <a:ext cx="889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83440" y="615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784080"/>
              <a:ext cx="88920" cy="65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46840" y="993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80400" y="3492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12160" y="11494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1080" y="536400"/>
              <a:ext cx="88560" cy="6516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5000" y="654120"/>
              <a:ext cx="88920" cy="666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08960" y="406440"/>
              <a:ext cx="84240" cy="95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51680" y="993600"/>
              <a:ext cx="68400" cy="70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3200" y="1263600"/>
              <a:ext cx="84240" cy="954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18200" y="1606680"/>
              <a:ext cx="3492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40400" y="145404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50080" y="1460520"/>
              <a:ext cx="8712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5400" y="1758960"/>
              <a:ext cx="84240" cy="954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8880" y="11685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1469880"/>
              <a:ext cx="8712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32480" y="806400"/>
              <a:ext cx="8424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7640" y="19080"/>
              <a:ext cx="84240" cy="95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220680"/>
              <a:ext cx="88920" cy="651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93240" y="95400"/>
              <a:ext cx="8388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7040" y="149400"/>
              <a:ext cx="79200" cy="93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8680" y="47520"/>
              <a:ext cx="88920" cy="669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84920" y="95400"/>
              <a:ext cx="5112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9080" y="0"/>
              <a:ext cx="84240" cy="9540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901000" y="85680"/>
              <a:ext cx="7956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45600" y="536400"/>
              <a:ext cx="73080" cy="82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48640" y="384120"/>
              <a:ext cx="81000" cy="9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32640" y="158760"/>
              <a:ext cx="84240" cy="954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91720" y="365040"/>
              <a:ext cx="88920" cy="6372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053640" y="74916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7720" y="70344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39160" y="1444680"/>
              <a:ext cx="85680" cy="698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4840" y="106992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96200" y="1682640"/>
              <a:ext cx="34920" cy="38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18400" y="1530360"/>
              <a:ext cx="84240" cy="954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83760" y="183528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16880" y="1244520"/>
              <a:ext cx="68400" cy="7632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15320" y="2841480"/>
              <a:ext cx="874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10480" y="882720"/>
              <a:ext cx="8424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75640" y="12222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9320" y="21366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47160" y="4129200"/>
              <a:ext cx="4896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31280" y="3049560"/>
              <a:ext cx="82440" cy="921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12360" y="3386160"/>
              <a:ext cx="80640" cy="9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99440" y="3592440"/>
              <a:ext cx="81000" cy="93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42520" y="4140360"/>
              <a:ext cx="80640" cy="93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35960" y="4960800"/>
              <a:ext cx="85680" cy="669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7400" y="4726080"/>
              <a:ext cx="3960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138720" y="6334200"/>
              <a:ext cx="2944800" cy="511200"/>
              <a:chOff x="6138720" y="6334200"/>
              <a:chExt cx="2944800" cy="511200"/>
            </a:xfrm>
          </p:grpSpPr>
          <p:sp>
            <p:nvSpPr>
              <p:cNvPr id="423" name=""/>
              <p:cNvSpPr/>
              <p:nvPr/>
            </p:nvSpPr>
            <p:spPr>
              <a:xfrm>
                <a:off x="747072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4708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8024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906040" y="6781680"/>
                <a:ext cx="8856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57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1536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882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3444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88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0080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5348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8348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60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24920" y="667368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2168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898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4852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67240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660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9460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3568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5992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994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37200" y="6496200"/>
                <a:ext cx="7956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9000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48560" y="6445080"/>
                <a:ext cx="8568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40440" y="6713640"/>
                <a:ext cx="85680" cy="666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26560" y="6642000"/>
                <a:ext cx="52200" cy="10476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61120" y="6445080"/>
                <a:ext cx="84240" cy="95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1220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5356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7736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07480" y="649296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3872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6432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756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6436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13680" y="6735600"/>
                <a:ext cx="8388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74080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4483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7548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5002200" y="6692760"/>
              <a:ext cx="81000" cy="939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13160" y="6716880"/>
              <a:ext cx="8568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40040" y="6788160"/>
              <a:ext cx="87480" cy="6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54280" y="6541920"/>
              <a:ext cx="2556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22840" y="6519960"/>
              <a:ext cx="8892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4040" y="6585120"/>
              <a:ext cx="8424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11400" y="6546960"/>
              <a:ext cx="8424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07120" y="6692760"/>
              <a:ext cx="81000" cy="9396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15000" y="6638760"/>
              <a:ext cx="73080" cy="82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26040" y="6553080"/>
              <a:ext cx="87480" cy="66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75840" y="4581360"/>
              <a:ext cx="79200" cy="939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28120" y="5473800"/>
              <a:ext cx="8892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742240" y="5187960"/>
              <a:ext cx="88920" cy="6516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12200" y="5427720"/>
              <a:ext cx="8712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99320" y="5794200"/>
              <a:ext cx="88920" cy="6372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864640" y="5950080"/>
              <a:ext cx="88920" cy="6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91360" y="5969160"/>
              <a:ext cx="6840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85320" y="5607000"/>
              <a:ext cx="83880" cy="95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5389-A450-4325-A7A2-50FC817A9008}" type="slidenum">
              <a:rPr b="0" i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14Z</dcterms:modified>
  <cp:revision>24</cp:revision>
  <dc:subject/>
  <dc:title>幻灯片 1</dc:title>
</cp:coreProperties>
</file>